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projctor.wav" ContentType="audio/x-wav"/>
  <Override PartName="/ppt/media/image8.png" ContentType="image/png"/>
  <Override PartName="/ppt/media/carbrake.wav" ContentType="audio/x-wav"/>
  <Override PartName="/ppt/media/image7.png" ContentType="image/png"/>
  <Override PartName="/ppt/media/image1.jpeg" ContentType="image/jpeg"/>
  <Override PartName="/ppt/media/drumroll.wav" ContentType="audio/x-wav"/>
  <Override PartName="/ppt/media/rain.wav" ContentType="audio/x-wav"/>
  <Override PartName="/ppt/media/wind%20approaching%20sound.wav" ContentType="audio/x-wav"/>
  <Override PartName="/ppt/media/image3.png" ContentType="image/png"/>
  <Override PartName="/ppt/media/image12.png" ContentType="image/png"/>
  <Override PartName="/ppt/media/image11.png" ContentType="image/png"/>
  <Override PartName="/ppt/media/image6.png" ContentType="image/png"/>
  <Override PartName="/ppt/media/wind%20big%202.wav" ContentType="audio/x-wav"/>
  <Override PartName="/ppt/media/image9.gif" ContentType="image/gif"/>
  <Override PartName="/ppt/media/applause.wav" ContentType="audio/x-wav"/>
  <Override PartName="/ppt/media/image10.png" ContentType="image/png"/>
  <Override PartName="/ppt/media/glass.wav" ContentType="audio/x-wav"/>
  <Override PartName="/ppt/media/image5.png" ContentType="image/png"/>
  <Override PartName="/ppt/media/whoosh.wav" ContentType="audio/x-wav"/>
  <Override PartName="/ppt/media/image2.png" ContentType="image/png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3A53-4D80-4ED2-911B-36E931804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3446-12AA-4DCD-97F4-A2D1359CF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3301-B138-40E9-8159-B3B169695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6806-55EF-4CE4-A6C3-888541E13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058F-4C19-43B2-BD4F-2CE56C789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6D30-A9BD-4182-AD47-9CB944460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C347-6050-4988-A67D-A14C82B09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D58D-C0B3-4982-A118-6011ECA0F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65A5-F3E7-4582-8F9B-54D8E47DB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D4A-E994-4490-97FB-1587DCC3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FEB-6464-4DE2-9F43-25D78328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E86-696D-4820-B290-17DA0CC5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1A0-68A1-4E8C-8FDD-61282776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BCBD-9885-47BE-9362-8A5D1ADB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AA96-D687-41E8-8E28-9DDFF621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5989-C25E-429F-9225-A7B219EB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246F-D87C-410C-BDBD-4C4A5F0C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F2FA-F0C4-4A36-9FB1-8E89ABB0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EC06-F4DF-47A5-AC31-ECA9383A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C53B-F715-43D5-B77C-E7BF48DE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1F0-DDBF-42FB-A9D0-59752D90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09F9-FAB0-457E-AE51-2681EF63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5AD6-E386-4956-B511-C8DAAE69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E2F8-91E4-44B2-80CA-6470A679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7B9C-0AA6-40C3-8139-43848DED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2535-F217-48AE-B0E7-167495B5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127F5-AC64-4458-A666-5EB2E08F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EFDE-1488-46FC-9E7F-2154A48B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F9288-1EE9-4BBF-B853-0CB74CE5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8E5D-CE31-48CE-8266-4C9E13DE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FE41A-8AAB-40E2-99C5-8277C274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E28-BD8E-42F4-91B1-4937A9A1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F8AF8-6659-4D6B-A0D6-B28F66AB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304F-C089-44A6-A54C-AF2AAA33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971AA-C2C2-4691-9D8F-832DF30E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91A74-8FDD-410E-8F8D-AB2022B4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5377C-4835-416E-9806-7630AC92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CE4BE-75EF-4DFD-A52D-7198C1ED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ECB2F-DE2B-41DD-A97E-1BA091A0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BBF67-7961-4BF1-8E31-2F11ED8F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41C2A-E42F-4E7F-AE14-C3901D98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ACC98-9DD3-41C8-B73D-E9F66A6E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A96-C1CE-4A20-8473-370E97B5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F78E-CB44-44F6-BE45-B64A13B9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CC533-E124-4449-9F39-09AF82C8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54459-E7F7-4D95-B0E5-66968256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720CC-636F-4787-A98D-50435FA8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69E68-2771-46F9-82F4-355A6F79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3A69C-2245-4D88-A8B1-10FAD540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A587-7BB6-4947-8480-11463AF4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E928A-678D-4503-BC46-7DD13491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BBFE2-5674-4425-888C-84F88F3B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6A443-A8B0-4F66-96D7-79EDCAD1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6FC-EEBB-4641-8F4D-0451B3D7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E4EC2-82EF-4ABA-AA05-82FEF22E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4AED0-447E-4B20-984B-ADA8553C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0647D-9EDD-42AE-8E3C-4AB70637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0866A-1673-4AED-9C29-E20745EA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78C63-F372-421E-AECA-A4CE753A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4DB11-F2B0-427C-A7D7-E199232D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8F569-BB40-4668-855D-9F8E79B6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8288E-D7AC-4B8C-B33E-30220205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3B1A2-7A2E-4580-9A13-1783EE71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F568A-33B4-4175-BAF7-496B3E00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96E-E511-47AB-8AAD-D7FC69C1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2B126-3C39-433C-BD20-11504A68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EAB86-42DB-4AB4-A78C-656F1B6A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90921-62F8-44FA-87B4-6D931146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3BA51-AE68-45A2-A530-A54F2A77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D66B0-7AF6-468A-A812-F2DF6C7A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6D66-6A53-4C04-9CD7-010421EC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E92F0-199F-4856-B3C2-EE9BED6E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04E84-7EEE-46DA-A632-C1F6C1FB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CA447-6D20-41C0-AB37-EE73744B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18C42-B8A9-4EF7-B996-37506577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8CD-8746-434E-9FBF-6E609061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D1735-9D59-4614-956B-97420394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1E5E1-CD6F-4EF8-8C49-1A23253C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6955A-F893-4AC6-886E-3A3F1F73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D7035-1760-4294-BF14-0B5C3F7F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E1634-9512-4D94-8127-95FE47C4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6BEFB-F239-494E-BA8C-6B40A9C5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8C0B3-A9FF-4F34-8D22-831F1B23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F9F11-A09F-4300-926F-F4A1CD97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41918-3B3F-4085-AB87-E307587A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496EC-DDFA-4648-93D6-2743C9D1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F65-8CBA-4065-99B9-117C05C0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1CA70-99F2-4273-8163-E6F9581D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EC7C0-3F67-4BE9-AA99-D8F09D2F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8FE9C-666C-4A2C-A60F-6D981074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DB34F-EB2C-4E8E-BECB-5473EEB3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04D41-1968-4F40-9AE5-384E18B8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A00-624F-4C7B-BC6E-3AEE3EA1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0041-60EE-4202-A213-F47BA1DB74F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F987-9982-4CCF-8FA6-E643AC837BE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91B7-8326-49B4-8268-6988F2142E5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4C53-20BF-4338-8EDC-55F37C4CF5C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F047-21F5-4802-AF8A-3CA5A8F4B7B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A611-D9D0-4D67-B95F-2CD2EB2059F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91D9-1DB8-44A9-A43D-C3AF3F85455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ind%20approaching%20sound.wav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../media/wind%20big%202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rain.wav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97800" cy="19144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What are they? What do they do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weather-symbols-636.jpg"/>
          <p:cNvPicPr/>
          <p:nvPr/>
        </p:nvPicPr>
        <p:blipFill>
          <a:blip r:embed="rId1"/>
          <a:stretch/>
        </p:blipFill>
        <p:spPr>
          <a:xfrm>
            <a:off x="-85680" y="-139680"/>
            <a:ext cx="9369360" cy="70833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Calibri"/>
              </a:rPr>
              <a:t>Today’s Objec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04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GLE 0607.8.4  Analyze meteorological data to predict weather condition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tudents will be able to name 4 tools that used to predict weather condition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Most Common Weather Tools Are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98040" y="1665000"/>
            <a:ext cx="77598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Thermometer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Wind Vane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Anemometer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Barometer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ain Gauge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4617b"/>
                </a:solidFill>
                <a:latin typeface="Harrington"/>
              </a:rPr>
              <a:t>Thermometer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thermometer is a weather tool used to measure the temperatur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1" name="Picture 1035" descr="F:\Manning_Becky\images_sounds\black and white thermometer.gif"/>
          <p:cNvPicPr/>
          <p:nvPr/>
        </p:nvPicPr>
        <p:blipFill>
          <a:blip r:embed="rId1"/>
          <a:stretch/>
        </p:blipFill>
        <p:spPr>
          <a:xfrm>
            <a:off x="5789520" y="1765440"/>
            <a:ext cx="15526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4617b"/>
                </a:solidFill>
                <a:latin typeface="Harrington"/>
              </a:rPr>
              <a:t>Wind Vane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y observing wind vanes, we can know the direction of the wind.  Knowing the direction of the wind is an important part in predicting the weathe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4" name="Picture 7" descr="F:\Manning_Becky\images_sounds\wind vane.gif"/>
          <p:cNvPicPr/>
          <p:nvPr/>
        </p:nvPicPr>
        <p:blipFill>
          <a:blip r:embed="rId1"/>
          <a:stretch/>
        </p:blipFill>
        <p:spPr>
          <a:xfrm>
            <a:off x="5803920" y="2984400"/>
            <a:ext cx="15238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%20approaching%20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Anemometer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6" name="Object 5"/>
          <p:cNvGraphicFramePr/>
          <p:nvPr/>
        </p:nvGraphicFramePr>
        <p:xfrm>
          <a:off x="2151000" y="3151080"/>
          <a:ext cx="9050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1000" y="3151080"/>
                    <a:ext cx="905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nd speed is an important part of weath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anemometer is a weather tool that measures wind spe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%20big%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Barometer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ometers are important to measuring air pressure.  Air pressure can help you predict good or bad weath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71" name="Object 4"/>
          <p:cNvGraphicFramePr/>
          <p:nvPr/>
        </p:nvGraphicFramePr>
        <p:xfrm>
          <a:off x="6170760" y="3127320"/>
          <a:ext cx="79056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0760" y="3127320"/>
                    <a:ext cx="79056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Rain Gaug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4" name="Object 3"/>
          <p:cNvGraphicFramePr/>
          <p:nvPr/>
        </p:nvGraphicFramePr>
        <p:xfrm>
          <a:off x="698400" y="2293920"/>
          <a:ext cx="381024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293920"/>
                    <a:ext cx="381024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rain gauge is a weather tool used to collect rai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sing measurements on the side of the rain gauge, you can see how many inches it rain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18:38:01Z</dcterms:created>
  <dc:creator>Su Hu</dc:creator>
  <dc:description/>
  <dc:language>en-US</dc:language>
  <cp:lastModifiedBy>Valued Acer Customer</cp:lastModifiedBy>
  <dcterms:modified xsi:type="dcterms:W3CDTF">2010-02-04T08:49:44Z</dcterms:modified>
  <cp:revision>7</cp:revision>
  <dc:subject/>
  <dc:title>Weather Tools</dc:title>
</cp:coreProperties>
</file>